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82600" y="955800"/>
            <a:ext cx="444024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37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182600" y="955800"/>
            <a:ext cx="444348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182600" y="955800"/>
            <a:ext cx="444348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182600" y="955800"/>
            <a:ext cx="444672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182600" y="955800"/>
            <a:ext cx="44481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1054080" y="4730760"/>
            <a:ext cx="470520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B289-DBC8-422B-B096-95B44EFD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9AC9-A930-4EA4-B961-C233639A04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9FFC-32CF-4034-B4D3-51089C56F8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B9B2-EEDD-4472-821F-B9776C2151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8B0B-D684-40C3-BDFE-32BA30698D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220A-F680-4548-9850-1F8EEE26E9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A9BC-F742-42AC-A271-FED844A11A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86DC-2E90-4581-85D0-B58B427B04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0F3E-3DF4-4C67-A6C4-35C4D98D4A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16E1-9ECA-469B-8596-4BD281744A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8442-AFC6-41BF-AA76-CCD039DF57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3B0A3-2C3C-455D-899F-5B5539343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09D6-10BF-4EDB-AFBB-AE3BA827A9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87E27-D356-40B0-9DC7-DCBCF8B156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7BDAB-799C-4D30-93C8-F760BC8635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62930-61F6-4771-AD91-D17A266B41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DE559-68C7-4489-ADAB-C530BF8D96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6BDEA-EBED-4BAF-B7DA-6328F7D6D56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7E648-4C21-44BB-8B1B-1CC5A752D4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1F369-B315-4AC0-BD33-1A127F50FB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FE396-2DA9-47CE-95AF-4FFFD3794B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00EDD-F08F-4CDC-92F4-00276193F4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7B22A-8E38-4EFD-9544-3FA9CB2B1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01D1-C95C-4948-91AD-66C37173B3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13667-B331-446A-967B-DEBB086EE8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C6865-90B6-45FB-9AED-F86407EFB8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6B625-2204-479A-959D-A28D2085B6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377BE-31FB-4DD6-8813-34E7D7DDE7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2088E-4F3B-492C-8AE8-FBB5ECC213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EA8A0-92A7-4937-BFB3-F0AFF3595D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F7359-8AE2-4017-96EF-46669942513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08895-676E-4C5A-A402-EC4B93A047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C7F5F-AE58-4D0D-B34F-8830C0AABC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B3337-06D1-4248-A632-7A686CA19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46F2-2BD4-4CE0-B093-51460D023D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04786-AD5D-4E35-9D7B-77A192230AB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83181-3358-4983-8D36-19FCB827644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8F9EF-76C8-4364-8257-90F5FE8B96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B76A-57C9-4575-AA69-8DBD29F82F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17AE-907D-4B13-88A4-98BE5E84CB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2CFF-418A-486C-8B68-7BC4566988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EA68-528D-490E-A382-1D8CA44056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8508-7C97-48DF-B847-ED7C9A0C313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2073-5680-481B-AE43-029DB52212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2B43-DB5A-4DBA-956F-8748CBF642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6DD4-9A42-4126-9026-80BA8AA8F2B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88D1-AD41-4B30-A067-A097C6CE9E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3372-D338-4928-A192-C77FC64507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AC88-C593-4EFA-A37F-2CF2BD1488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E39B-ACDC-4E8A-98AE-66F6F4CCD2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7992-71EF-43F9-91E9-12DA258E57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0DE45-CF51-4454-83B1-08A3A7B1FA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0A4C16-E0BD-431F-B7F2-8558976A98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CD3FEA-C869-4A80-BA5E-CFA88C1E0D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BC3F32-50D1-4B55-AFC0-FEA346EA421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E4F87-0F2A-4504-BD3B-E6C8FC714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B867-946C-46B3-A2E9-6563215CB5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AABD8-0697-4A9A-A8A8-1945B73421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5D5D0-7BF6-4E02-9987-26D8E1F41BC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98AB5-2C1C-4803-B763-8443BF5D02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CAC3E-3ACC-4185-B8B9-89DC7864BCA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E0485-5478-40D4-B5C8-9F74F0246B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4D18F-091C-4B15-A412-29D3688189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D360C-3204-4261-8D35-669BD71AC6B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0C765-2E32-4A78-91B5-424A076EB7B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44CBA-09AD-4D58-86EC-3C6CF2198A0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04BE0-8E1E-4173-8810-5B03425512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9839-34FA-4831-AF76-06FE8BD54FE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FFCFA-A3D8-4288-9BF4-80EBDF6747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F2B7C-514A-4D1D-A8A5-48B3C2B13C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5866D-8B84-476D-AAF0-AEC3DF30B7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7284D-8B86-493D-BF75-20A21FF6FC5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73DB4-B1F2-4121-B51C-0C41012EDD1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3BEE5-8265-413A-BE56-36AEB6A8FF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6A4E4-874B-4518-B77B-F3C6052B168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8F621-5EA5-4D43-B8DD-65001ED3179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8F9DC-EBD7-4199-A631-0ADD14C3A71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A77F-C40D-4958-8C90-A11DBF4DC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5D5A-DAC0-4571-A761-4BB6E31A908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9142-F161-45F0-A283-732509FD5B8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71C3-E646-41EC-83DF-399D6C8CD9B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7464-AE2B-4129-B208-67AC322F3E4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0F75-AC4A-4D39-8FE9-B0DE2D9142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32A4-F763-40D1-8C21-FD172998882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23738-1D66-4E29-8DD3-F5180DACAC4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A5C4-015F-41E5-B373-240DDAA718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2B63-4EA3-4E6F-8316-432A5EDEC2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37EB1-53B2-4EEE-999E-97A4A7D9582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2DCF-9EC7-4FD6-88CF-6565F73F7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2141-F4BB-4BE9-BC7A-0C74A2F354A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C8A7D-390F-48AD-9E75-18D713E4BDD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3E52B-F96F-4D8F-9527-B389BFC0A41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91690-0FC7-4CD5-9E7F-7148F6DA474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858B5-91F1-4B76-A7A7-81599E98C7D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BC8F9-7688-471E-A8B7-15286B25DB7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E74EB-9E4C-4CB9-9D30-468883F062D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C3074-6712-4979-A539-707A626A431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29EC1-D814-4D27-8881-48E1819F45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9A7E4-6557-44EE-847E-49BF883EE49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0676A-B0FF-4896-B6DF-06EB93DCEC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E47F-151B-48D0-A0B7-834C849D855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828C1-737D-427B-B9B4-15C835CB11D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54088-037A-4C4F-AF6A-2BC1851994D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6E4CF-3D67-4907-8894-77A81195A7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64F59-77AD-45B6-8DCB-DCEB6906EE3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A8378-A95C-44A1-8D5F-6D3A017E065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56D06-4A5E-4F3A-B557-EB231D793B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1D495-3925-481F-8A92-3866A03796A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74510-8044-43B7-8387-2D52F0A6654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1BB5C-9ADD-4989-9532-9636EA8F830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4CFB6-97AD-4038-80DC-01B6B937B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ADFF-FFA8-432D-B0F9-15872A642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40A1-0A3A-440C-B4E1-E55E7297B54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AC342-B0F5-413C-977D-2DB65902722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C27C6-4BD9-4ACB-91B7-A3A21B36DF0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CF2CA-1FF6-452E-9B86-05B177F50A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C37E4-452A-4FAA-83AB-CA917ABB372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95DE8-80DD-4AB1-A9A2-A46DF55CA46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A33DD-5BAC-4793-B93F-90CD4EE52DF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4E27-1446-4FF0-BEF8-3115030B897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062A-D608-4087-A557-C148D6DA4CC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0AFC-B506-4DE3-A0D2-82116A91B91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299B-7836-45FE-988E-A0D09E6CA6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1826-D04E-4D73-9563-8684566B794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2A03-166D-44C8-AD44-B3B669E0505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1240-EDE3-4A69-8986-E2357661095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380A-E113-4A34-877B-A4FAAAB0808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2419-9B93-4282-B0A8-8BAA8457F53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16B0-F7A2-4CB1-9365-03F546B864D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C795-48AC-478C-8F0E-DDEE52CF039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A89B-D0B2-4620-879E-D6D2C73EAE8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C98C59-A7AB-4FE2-894F-5BE163F2EA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09E392-70D7-4D35-AF7F-1293B463541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FC0B77-EC03-4AAD-83B9-FC4287FC6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A179-42DF-45CC-9E42-8044F13BD6F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28E03-DB4E-4213-9AEE-4BEA92A23DC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2FFA7-CD74-4B7B-AF54-F23D575B84C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82810A-D0E1-4A4F-8647-E2A44372B79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B554C-5A66-4395-A208-2A18D600B84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7DE2BD-A987-4039-A506-03E2C40B43B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99396-DC43-49C8-8007-2588F104F88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2A60BA-3B94-4CA4-881A-64673B1A555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9D476-B936-4770-98DE-83CE6BE9802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B5460C-34EB-4284-883D-92A90C322C4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09210-6FE0-4B80-95D9-910BB03677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7DD2-2912-4FC5-A120-A48510AB8FB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34901-9ABC-42BC-A6BF-3ADFE94C697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8D3B3-8CC4-4AA6-8626-66D633EDCCF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DE635-043D-4F42-8DA9-6199E157803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23F94-523E-4EF9-ADA9-894F426705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29BA9-6838-4909-9833-AE95D2C6EEA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878E3-48BC-42EB-AF76-AAD10FEC291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ABE14-6695-4DA3-B67D-8B815CFEFF8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C7CA7-0826-4B47-8886-805BB9FA544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02BBD-769E-420D-8E10-B5A670C5CEE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C7190-84FF-4407-93FC-C35690BFAD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84CC-E722-44F3-871E-00864D2C7B5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80B36-B524-4103-A2BC-84C95E43940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DA38-F2DF-4F40-9566-E546AF83A9C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16DE-C3D9-48C8-8CFD-4C027D425B2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88D6-C62E-46BC-BC66-3B695D9DEDC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50C2-9346-4E47-B566-B8DFA103478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69C6-18F0-4C90-95AC-71DF7B4510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8265-885D-413B-9BA3-5EECF4A78BE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E2403-5DAD-429A-91F4-9DC88A2CF18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C9BA-D80F-4FC1-9A22-D87FA755C1E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3BEAD-BA5A-4E2C-A942-48658EA8D9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52F-E4EB-4BB7-BCAD-119FD011A07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214E-8F22-498D-963F-BA2714FBBDB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5384-B1E5-417F-A087-E64DA964043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B633-65A6-4FCA-A136-0AFBC52930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E69-81AE-4872-B4FE-A28A30AF651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D83-AA76-4C59-B6DF-7C787B8CBE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B06-10A1-49F1-9D1B-F07A1BD5DE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5AE-10D2-44ED-A678-8CBD09B24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A11F-D9FB-4A41-82D2-4E2F3D1ACC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E6D-E4B2-4F23-BE7B-6D185F6515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BA9-EFAD-4D1A-82C5-9B9487B77C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18E-D549-484A-8C39-57040B7A81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2B5-18FF-4ACC-B494-EC642D8172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E5E-A330-4781-9C95-73568569AE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C3C-418A-47DD-AB56-4E6A12996A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3B3-0C71-41DF-8531-BC11EFEE5F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AC5DB-96F8-4B39-ABBF-E1300748B7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D84C-257E-475A-8D1B-C350C6CB7B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E197C-4C01-4F46-A368-40C1BCF04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9748-29A6-4F01-8E88-51401AEA1B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E91E3-E035-4BD4-AC5F-DA1264E0E5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90314-3B63-45D4-B55F-D43EECAD70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B36A3-76BA-4D6C-872F-6D0EB84097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74E7F-0FBB-43E7-91D3-139CF88538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89670-723F-494E-9026-6FBB3FCAC1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FF9F6-B450-4330-924E-DE9CC3A4B9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E74BC-F21A-46B4-8D6B-EB88C48472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B1DC5-C1C7-4CED-83E9-F9E21B2779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8AB35-BECF-45B2-96A1-07DCB4F5BF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DDA5E-8D08-46FC-9C67-E413A4E25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1793-EFCA-4E8E-A147-750585441D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90354-C601-4E3E-BA5B-96D1A99552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076E-536E-42C6-9FC2-B5FB9E9B93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DA3AF-90C4-4FC9-9E3B-63DDFF5661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47A3-45CD-4AFF-84FB-B29E42C3A4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B6E86-F857-4D92-A977-E82FFEF7E6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B56D4-2B15-4691-A88F-4FD9CCDA027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65D50-0640-4A37-A6E7-555B17A61C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BA32-DDAC-4CAE-AD58-6A486DF751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5F6B-6EF5-4E21-B5F8-28F433B508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8183-348E-426E-937C-15F584C4D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07C1-EFFF-4300-91C5-E73BD0ED46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C5E14-658C-4597-9051-4AE8142DA1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F2A-A700-4321-99FF-B42786433D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1907-0AA6-4E7B-8C7C-09EAA87EE7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5F52-BF4A-44CA-9CAD-6D4B4CCD25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5AEA-CE5A-465F-873B-E554470BCB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F337-33DD-46CE-8DF8-0DEADE04B5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B9E-90A3-4B90-97FC-243D9E5F46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FF4E-4D89-4C6E-A520-D5082B81D3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4BC-A38F-46EE-9DBD-FF4FA633C3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1CCD-EEEF-4D09-B346-3D431F9BD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7379-9DB6-4D61-BA83-7C701E2704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B15B-CCDD-448E-A19D-87B4351046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D76D-AD2E-4E42-B1D4-4937C7063A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613-4F3A-4BD5-A14C-72FFA21FE8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00CA0-48ED-46F7-BE65-6A70474A39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87125-4F69-455E-9304-DD9658F94F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2A5AA-BAA4-4EA0-8555-ABCC222B1B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FB81C-6AC9-4691-AA66-8549018F56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79766-9D39-4FA4-8264-5112CD39F3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28419-D176-4A95-8362-DF8BB040EE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B5A24-5EF6-49AB-93A9-A426800A8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EC76-EDAF-4673-B2E6-3AC06E59DD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551CF-BD37-426D-A107-2AB45C7BC9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C0608-359D-4DA9-9AC1-70EADE0A43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60349-7CCB-42B1-BAA1-15BF4F8307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213A7-7B0E-4B40-8614-24AA4B1242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8309D-BD29-4B4A-A242-6E16332DE98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1479A-72E8-43D1-BAA3-E5553790ED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AE98A-764A-4134-BEE7-2C142E100F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68477-CE3B-4C6B-8FB6-64DBE5A68C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D95C0-0E4C-4EA5-95A3-D138DFEBB8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C52C9-7A74-4EDC-9179-09CD26D7B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9DA0-45BD-42FB-899E-B6BC293DF2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8B417-9C61-48B4-BC50-E5924FA48C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5CF36-93DB-4C11-9D9B-F12CA5D8C4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ED3BE-8708-415F-BB1F-E143130E72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92289-A2B1-4CF5-8C98-1A7791DE130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45920" y="4298400"/>
            <a:ext cx="76294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A12B6-9386-479F-9E45-A556C9FFF5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5520" y="193824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459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55520" y="4298400"/>
            <a:ext cx="372312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AAABF-92E7-4FF5-B744-F686CB49C1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253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04720" y="193824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7459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253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04720" y="4298400"/>
            <a:ext cx="24562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024D4-5F2B-4AEE-BA6B-1A145E0941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FB42-347F-4937-BDA6-779E15CEE5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C6CA-91BB-4A0D-9A2F-2B537F6451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5715-BC2E-4F61-A500-575742CD6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18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2256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E822A-08AE-4769-B7FA-83B13A406B77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8456760" cy="5941800"/>
            <a:chOff x="0" y="0"/>
            <a:chExt cx="8456760" cy="5941800"/>
          </a:xfrm>
        </p:grpSpPr>
        <p:sp>
          <p:nvSpPr>
            <p:cNvPr id="469" name=""/>
            <p:cNvSpPr/>
            <p:nvPr/>
          </p:nvSpPr>
          <p:spPr>
            <a:xfrm>
              <a:off x="0" y="2285280"/>
              <a:ext cx="8182080" cy="3656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8456760" cy="585468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62452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3E385A-5C3D-402B-960C-F93E0F3B5660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33720" y="473040"/>
            <a:ext cx="4874760" cy="3502800"/>
            <a:chOff x="2133720" y="473040"/>
            <a:chExt cx="4874760" cy="3502800"/>
          </a:xfrm>
        </p:grpSpPr>
        <p:sp>
          <p:nvSpPr>
            <p:cNvPr id="514" name=""/>
            <p:cNvSpPr/>
            <p:nvPr/>
          </p:nvSpPr>
          <p:spPr>
            <a:xfrm>
              <a:off x="2133720" y="1643040"/>
              <a:ext cx="161532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91720" y="1643040"/>
              <a:ext cx="161676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93720" y="473040"/>
              <a:ext cx="4172040" cy="3502800"/>
              <a:chOff x="2493720" y="473040"/>
              <a:chExt cx="4172040" cy="3502800"/>
            </a:xfrm>
          </p:grpSpPr>
          <p:sp>
            <p:nvSpPr>
              <p:cNvPr id="517" name=""/>
              <p:cNvSpPr/>
              <p:nvPr/>
            </p:nvSpPr>
            <p:spPr>
              <a:xfrm flipH="1" rot="10800000">
                <a:off x="2493720" y="492840"/>
                <a:ext cx="4170600" cy="3483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93720" y="473040"/>
                <a:ext cx="2085840" cy="348444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93720" y="473040"/>
                <a:ext cx="4172040" cy="34380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78120" y="473040"/>
                <a:ext cx="2087280" cy="348444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133720" y="2589120"/>
              <a:ext cx="4869000" cy="49212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75440" cy="14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4080" y="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6552720" y="-3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B0608B-05AA-4C5F-B892-D6F57B743C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-7758000" y="1463760"/>
            <a:ext cx="16900200" cy="10793160"/>
            <a:chOff x="-7758000" y="1463760"/>
            <a:chExt cx="16900200" cy="10793160"/>
          </a:xfrm>
        </p:grpSpPr>
        <p:sp>
          <p:nvSpPr>
            <p:cNvPr id="564" name=""/>
            <p:cNvSpPr/>
            <p:nvPr/>
          </p:nvSpPr>
          <p:spPr>
            <a:xfrm>
              <a:off x="3270600" y="2709360"/>
              <a:ext cx="5871600" cy="4147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7758000" y="1463760"/>
              <a:ext cx="13451040" cy="1079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12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8342A5-0C0A-4556-A510-3B4198AA0B5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08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13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632376-816D-46A5-90DC-294D3AA0CD0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52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14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11CDFE-0ABA-4F6F-B3CF-533C3F9CB57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696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5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19C31C-DF41-4E89-AFC5-03D15D37549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740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Num" idx="16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6AD72B-4B7D-4BE6-8923-7D656F551CB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784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17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16CA27-D172-4BE3-B1E9-747B7A15B1A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828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Num" idx="18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B55B31-C281-4568-A1E7-FEAFD5451FB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872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Num" idx="19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3E16A4-F2A0-488E-BE62-EE918ED5006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6480"/>
            <a:ext cx="9138960" cy="6849720"/>
            <a:chOff x="0" y="6480"/>
            <a:chExt cx="9138960" cy="6849720"/>
          </a:xfrm>
        </p:grpSpPr>
        <p:sp>
          <p:nvSpPr>
            <p:cNvPr id="64" name=""/>
            <p:cNvSpPr/>
            <p:nvPr/>
          </p:nvSpPr>
          <p:spPr>
            <a:xfrm>
              <a:off x="885600" y="1842480"/>
              <a:ext cx="8253360" cy="5013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842480"/>
              <a:ext cx="885600" cy="5013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6480"/>
              <a:ext cx="9137520" cy="6848280"/>
              <a:chOff x="0" y="6480"/>
              <a:chExt cx="9137520" cy="6848280"/>
            </a:xfrm>
          </p:grpSpPr>
          <p:sp>
            <p:nvSpPr>
              <p:cNvPr id="67" name=""/>
              <p:cNvSpPr/>
              <p:nvPr/>
            </p:nvSpPr>
            <p:spPr>
              <a:xfrm>
                <a:off x="875880" y="6480"/>
                <a:ext cx="18720" cy="11023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5880" y="2575080"/>
                <a:ext cx="18720" cy="42796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17120" y="1832400"/>
                <a:ext cx="7520400" cy="187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5880" y="2175480"/>
                <a:ext cx="18720" cy="3996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5880" y="1108800"/>
                <a:ext cx="1872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75880" y="1509120"/>
                <a:ext cx="18720" cy="6663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832400"/>
                <a:ext cx="556920" cy="18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6800" y="1832400"/>
                <a:ext cx="399960" cy="187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2240" y="1832400"/>
                <a:ext cx="664560" cy="18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2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2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2"/>
          </p:nvPr>
        </p:nvSpPr>
        <p:spPr>
          <a:xfrm>
            <a:off x="6705720" y="6248160"/>
            <a:ext cx="1893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3B2109-6187-496D-8ED3-C6E68097FB0A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916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sldNum" idx="20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9D0524-3920-455C-836C-B6028510151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960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Num" idx="21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747CF8-0D80-466E-97BA-8ECBF0D5809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29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7240680" cy="1979280"/>
            <a:chOff x="0" y="0"/>
            <a:chExt cx="7240680" cy="1979280"/>
          </a:xfrm>
        </p:grpSpPr>
        <p:sp>
          <p:nvSpPr>
            <p:cNvPr id="118" name=""/>
            <p:cNvSpPr/>
            <p:nvPr/>
          </p:nvSpPr>
          <p:spPr>
            <a:xfrm>
              <a:off x="0" y="924840"/>
              <a:ext cx="7121520" cy="105444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0"/>
              <a:ext cx="7240680" cy="190188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2452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62E911-7E80-4D42-BD80-02EF1F444FC4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280" y="374760"/>
            <a:ext cx="1522080" cy="1239120"/>
            <a:chOff x="152280" y="374760"/>
            <a:chExt cx="1522080" cy="1239120"/>
          </a:xfrm>
        </p:grpSpPr>
        <p:sp>
          <p:nvSpPr>
            <p:cNvPr id="163" name=""/>
            <p:cNvSpPr/>
            <p:nvPr/>
          </p:nvSpPr>
          <p:spPr>
            <a:xfrm>
              <a:off x="1168560" y="785880"/>
              <a:ext cx="50580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280" y="785880"/>
              <a:ext cx="50580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38680" y="374760"/>
              <a:ext cx="1298880" cy="1239120"/>
              <a:chOff x="238680" y="374760"/>
              <a:chExt cx="1298880" cy="1239120"/>
            </a:xfrm>
          </p:grpSpPr>
          <p:sp>
            <p:nvSpPr>
              <p:cNvPr id="166" name=""/>
              <p:cNvSpPr/>
              <p:nvPr/>
            </p:nvSpPr>
            <p:spPr>
              <a:xfrm flipH="1" rot="10800000">
                <a:off x="238320" y="394560"/>
                <a:ext cx="1296360" cy="121932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9400" y="374760"/>
                <a:ext cx="650160" cy="122076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9400" y="374760"/>
                <a:ext cx="1298160" cy="1213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8480" y="374760"/>
                <a:ext cx="649080" cy="122076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52280" y="1117440"/>
              <a:ext cx="1519200" cy="17316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75440" cy="14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39936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39936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655272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DD597F-8B3F-42C0-8F86-3995140D2F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8405640" y="4680"/>
            <a:ext cx="17536680" cy="13689000"/>
            <a:chOff x="-8405640" y="4680"/>
            <a:chExt cx="17536680" cy="13689000"/>
          </a:xfrm>
        </p:grpSpPr>
        <p:sp>
          <p:nvSpPr>
            <p:cNvPr id="213" name=""/>
            <p:cNvSpPr/>
            <p:nvPr/>
          </p:nvSpPr>
          <p:spPr>
            <a:xfrm>
              <a:off x="5386680" y="1585440"/>
              <a:ext cx="3744360" cy="526032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8405640" y="4680"/>
              <a:ext cx="16819560" cy="1368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69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20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15120" y="640404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2560" y="6365880"/>
            <a:ext cx="4267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5"/>
          </p:nvPr>
        </p:nvSpPr>
        <p:spPr>
          <a:xfrm>
            <a:off x="7198920" y="6148080"/>
            <a:ext cx="1893960" cy="3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432C60-19F0-4503-B5CF-A11511913A4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77840" y="230040"/>
            <a:ext cx="200880" cy="6502320"/>
            <a:chOff x="177840" y="230040"/>
            <a:chExt cx="200880" cy="6502320"/>
          </a:xfrm>
        </p:grpSpPr>
        <p:sp>
          <p:nvSpPr>
            <p:cNvPr id="257" name=""/>
            <p:cNvSpPr/>
            <p:nvPr/>
          </p:nvSpPr>
          <p:spPr>
            <a:xfrm flipH="1">
              <a:off x="303120" y="256680"/>
              <a:ext cx="75240" cy="6475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7840" y="230040"/>
              <a:ext cx="75600" cy="625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802720" y="236520"/>
            <a:ext cx="187920" cy="6388920"/>
            <a:chOff x="8802720" y="236520"/>
            <a:chExt cx="187920" cy="6388920"/>
          </a:xfrm>
        </p:grpSpPr>
        <p:sp>
          <p:nvSpPr>
            <p:cNvPr id="260" name=""/>
            <p:cNvSpPr/>
            <p:nvPr/>
          </p:nvSpPr>
          <p:spPr>
            <a:xfrm flipH="1" flipV="1" rot="10800000">
              <a:off x="8922960" y="236520"/>
              <a:ext cx="6732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10800000">
              <a:off x="8802720" y="376560"/>
              <a:ext cx="7704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3200" y="6475320"/>
            <a:ext cx="8685360" cy="228240"/>
            <a:chOff x="403200" y="6475320"/>
            <a:chExt cx="8685360" cy="228240"/>
          </a:xfrm>
        </p:grpSpPr>
        <p:sp>
          <p:nvSpPr>
            <p:cNvPr id="263" name=""/>
            <p:cNvSpPr/>
            <p:nvPr/>
          </p:nvSpPr>
          <p:spPr>
            <a:xfrm flipV="1" rot="5400000">
              <a:off x="4708080" y="2170440"/>
              <a:ext cx="75600" cy="868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5400000">
              <a:off x="4615200" y="2415960"/>
              <a:ext cx="75600" cy="8499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600" y="176040"/>
            <a:ext cx="8743680" cy="160920"/>
            <a:chOff x="66600" y="176040"/>
            <a:chExt cx="8743680" cy="160920"/>
          </a:xfrm>
        </p:grpSpPr>
        <p:sp>
          <p:nvSpPr>
            <p:cNvPr id="266" name=""/>
            <p:cNvSpPr/>
            <p:nvPr/>
          </p:nvSpPr>
          <p:spPr>
            <a:xfrm flipV="1" rot="5400000">
              <a:off x="4519440" y="-3953880"/>
              <a:ext cx="57960" cy="852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5400000">
              <a:off x="4407840" y="-4165200"/>
              <a:ext cx="59760" cy="8742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9898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761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60120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0120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6"/>
          </p:nvPr>
        </p:nvSpPr>
        <p:spPr>
          <a:xfrm>
            <a:off x="6857640" y="601308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2A3C76-0908-4791-B2E2-9C01470B09A7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310" name="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18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62434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7"/>
          </p:nvPr>
        </p:nvSpPr>
        <p:spPr>
          <a:xfrm>
            <a:off x="6553080" y="6243480"/>
            <a:ext cx="212256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826592-6A2F-4A54-9AE3-ADA711984AFB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79440" y="445680"/>
            <a:ext cx="7075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79440" y="1599840"/>
            <a:ext cx="5246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64292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4292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8"/>
          </p:nvPr>
        </p:nvSpPr>
        <p:spPr>
          <a:xfrm>
            <a:off x="6553080" y="6428880"/>
            <a:ext cx="21225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A2942B-B887-484A-9CA3-60E39D13193C}" type="slidenum">
              <a:rPr b="0" lang="ru-RU" sz="12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6480"/>
            <a:ext cx="9138960" cy="6850080"/>
            <a:chOff x="0" y="6480"/>
            <a:chExt cx="9138960" cy="6850080"/>
          </a:xfrm>
        </p:grpSpPr>
        <p:grpSp>
          <p:nvGrpSpPr>
            <p:cNvPr id="414" name=""/>
            <p:cNvGrpSpPr/>
            <p:nvPr/>
          </p:nvGrpSpPr>
          <p:grpSpPr>
            <a:xfrm>
              <a:off x="0" y="1843200"/>
              <a:ext cx="9138960" cy="5013360"/>
              <a:chOff x="0" y="1843200"/>
              <a:chExt cx="9138960" cy="5013360"/>
            </a:xfrm>
          </p:grpSpPr>
          <p:sp>
            <p:nvSpPr>
              <p:cNvPr id="415" name=""/>
              <p:cNvSpPr/>
              <p:nvPr/>
            </p:nvSpPr>
            <p:spPr>
              <a:xfrm>
                <a:off x="885600" y="1843200"/>
                <a:ext cx="8253360" cy="50133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43200"/>
                <a:ext cx="885600" cy="501336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52600" y="6480"/>
              <a:ext cx="8586360" cy="6849720"/>
              <a:chOff x="552600" y="6480"/>
              <a:chExt cx="8586360" cy="6849720"/>
            </a:xfrm>
          </p:grpSpPr>
          <p:sp>
            <p:nvSpPr>
              <p:cNvPr id="421" name=""/>
              <p:cNvSpPr/>
              <p:nvPr/>
            </p:nvSpPr>
            <p:spPr>
              <a:xfrm>
                <a:off x="875880" y="6480"/>
                <a:ext cx="18720" cy="11026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75880" y="2575800"/>
                <a:ext cx="18720" cy="4280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17480" y="1832760"/>
                <a:ext cx="7521480" cy="187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75880" y="2175840"/>
                <a:ext cx="18720" cy="3996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75880" y="1109160"/>
                <a:ext cx="1872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2600" y="1832760"/>
                <a:ext cx="664560" cy="18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2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2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526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705720" y="6248160"/>
            <a:ext cx="1893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1BEEBE-67FB-4C9C-945A-6EA84D3A6F28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2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3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4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5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6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7" Type="http://schemas.openxmlformats.org/officeDocument/2006/relationships/hyperlink" Target="file:///&#1044;&#1080;&#1072;&#1075;&#1085;&#1086;&#1089;&#1090;&#1080;&#1095;&#1077;&#1089;&#1082;&#1080;&#1077;%20&#1079;&#1072;&#1076;&#1072;&#1085;&#1080;&#1103;%20&#1076;&#1083;&#1103;%20&#1047;&#1072;&#1093;&#1072;&#1088;&#1072;.wmv" TargetMode="External"/><Relationship Id="rId8" Type="http://schemas.openxmlformats.org/officeDocument/2006/relationships/slideLayout" Target="../slideLayouts/slideLayout25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7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61680" y="310680"/>
            <a:ext cx="780876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Какие комплексные </a:t>
            </a:r>
            <a:br>
              <a:rPr sz="4800"/>
            </a:b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задания помогут </a:t>
            </a:r>
            <a:br>
              <a:rPr sz="4800"/>
            </a:b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ребенку освоить основные графические умения?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755964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774072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4140360" y="3240000"/>
            <a:ext cx="4140000" cy="2765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720720" y="900000"/>
            <a:ext cx="4859280" cy="2046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71400" y="523440"/>
            <a:ext cx="78026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99284c"/>
                </a:solidFill>
                <a:latin typeface="Arial"/>
              </a:rPr>
              <a:t>Мозаика</a:t>
            </a:r>
            <a:endParaRPr b="1" i="1" lang="en-US" sz="9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745920" y="1982880"/>
            <a:ext cx="7630920" cy="28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Узор из скрепленных с друг другом кусочков смальты, разноцветныхкамешков, эмали, дерева, мозаики из стекл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20360" y="634680"/>
            <a:ext cx="780876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Шаблоны</a:t>
            </a: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 и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трафареты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899640" y="2519280"/>
            <a:ext cx="76374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3959280" cy="341964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4859280" y="3419640"/>
            <a:ext cx="3521160" cy="2700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566640" y="2519280"/>
            <a:ext cx="3932280" cy="360036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4859280" y="1079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900000" y="1079640"/>
            <a:ext cx="3240360" cy="3060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2560" y="65232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12384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Наши предположения: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80640" bIns="0" anchor="t">
            <a:normAutofit/>
          </a:bodyPr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Составление паркетов и мозаи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0">
              <a:lnSpc>
                <a:spcPct val="87000"/>
              </a:lnSpc>
              <a:buNone/>
              <a:tabLst>
                <a:tab algn="l" pos="0"/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59688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знакомление с объемными геометрическими фигурами  и их изображениям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20720" y="771480"/>
            <a:ext cx="78087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Объемные </a:t>
            </a:r>
            <a:br>
              <a:rPr sz="6600"/>
            </a:b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фигур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2700360" y="3060720"/>
            <a:ext cx="341928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2700360" cy="24303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4859280" y="3419640"/>
            <a:ext cx="2567160" cy="233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671400" y="674640"/>
            <a:ext cx="78091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  <a:ea typeface="Lucida Sans Unicode"/>
              </a:rPr>
              <a:t>Диагностические задания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1"/>
              </a:rPr>
              <a:t>Диагностические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задания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5"/>
              </a:rPr>
              <a:t>для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7"/>
              </a:rPr>
              <a:t>Захара.wmv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9" name=""/>
          <p:cNvGraphicFramePr/>
          <p:nvPr/>
        </p:nvGraphicFramePr>
        <p:xfrm>
          <a:off x="1819440" y="1805040"/>
          <a:ext cx="6119640" cy="1052640"/>
        </p:xfrm>
        <a:graphic>
          <a:graphicData uri="http://schemas.openxmlformats.org/drawingml/2006/table">
            <a:tbl>
              <a:tblPr/>
              <a:tblGrid>
                <a:gridCol w="1804680"/>
                <a:gridCol w="4314960"/>
              </a:tblGrid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Осарина Е.Ю., Фрид М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Симметрия, орнаменты и моза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Бардина Р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Куда не ходят по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Мальцева И 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Бродил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1036800" y="3881520"/>
          <a:ext cx="6119640" cy="701640"/>
        </p:xfrm>
        <a:graphic>
          <a:graphicData uri="http://schemas.openxmlformats.org/drawingml/2006/table">
            <a:tbl>
              <a:tblPr/>
              <a:tblGrid>
                <a:gridCol w="1804680"/>
                <a:gridCol w="4314960"/>
              </a:tblGrid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М Н Султа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Развиваем пространственное мыш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Е В Колесник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Цвет и 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565200" y="5319720"/>
          <a:ext cx="6119640" cy="351000"/>
        </p:xfrm>
        <a:graphic>
          <a:graphicData uri="http://schemas.openxmlformats.org/drawingml/2006/table">
            <a:tbl>
              <a:tblPr/>
              <a:tblGrid>
                <a:gridCol w="1805040"/>
                <a:gridCol w="4314600"/>
              </a:tblGrid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И Ф Шарыгин, Т. Г. Шарыг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Первые шаги в геомет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1092" name=""/>
          <p:cNvSpPr/>
          <p:nvPr/>
        </p:nvSpPr>
        <p:spPr>
          <a:xfrm>
            <a:off x="671400" y="679320"/>
            <a:ext cx="78044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Lucida Sans Unicode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55560" y="2160720"/>
            <a:ext cx="7804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99284c"/>
                </a:solidFill>
                <a:latin typeface="Arial"/>
              </a:rPr>
              <a:t>Спасибо за внимание </a:t>
            </a:r>
            <a:endParaRPr b="1" i="1" lang="en-US" sz="9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51960" y="615960"/>
            <a:ext cx="780732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14328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Цель проекта: 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821880" y="1439640"/>
            <a:ext cx="76374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99284c"/>
                </a:solidFill>
                <a:latin typeface="Arial"/>
              </a:rPr>
              <a:t>Познакомить студентов с комплексными заданиями</a:t>
            </a:r>
            <a:r>
              <a:rPr b="0" i="1" lang="en-US" sz="4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284c"/>
                </a:solidFill>
                <a:latin typeface="Arial"/>
              </a:rPr>
              <a:t>с использованием лабиринтов, мозаик, орнаментов, шаблонов и трафаретов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Лабиринт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745920" y="1982880"/>
            <a:ext cx="7637400" cy="28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запутанная сеть дорожек, ходов, сообщающихся друг с другом помещений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2506680" y="600120"/>
            <a:ext cx="387648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671400" y="63504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5224320" y="816120"/>
            <a:ext cx="2776680" cy="24494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816120" y="652320"/>
            <a:ext cx="2776320" cy="261324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"/>
          <a:stretch/>
        </p:blipFill>
        <p:spPr>
          <a:xfrm>
            <a:off x="2938320" y="3755880"/>
            <a:ext cx="2776680" cy="2449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284c"/>
                </a:solidFill>
                <a:latin typeface="Arial"/>
              </a:rPr>
              <a:t>Орнамент 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745920" y="1619280"/>
            <a:ext cx="7637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2900" spc="-1" strike="noStrike">
                <a:solidFill>
                  <a:srgbClr val="99284c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29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1800360" y="720720"/>
            <a:ext cx="5040000" cy="5580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079640" y="900000"/>
            <a:ext cx="701964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30:23Z</dcterms:created>
  <dc:creator>Denis Rodman</dc:creator>
  <dc:description/>
  <dc:language>en-US</dc:language>
  <cp:lastModifiedBy>Администратор</cp:lastModifiedBy>
  <dcterms:modified xsi:type="dcterms:W3CDTF">2010-03-09T10:40:12Z</dcterms:modified>
  <cp:revision>44</cp:revision>
  <dc:subject/>
  <dc:title>Образовательные технологии в системе педагогической деятельности   </dc:title>
</cp:coreProperties>
</file>